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0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B5FA-774C-4E10-BC5E-3CE2272A3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499-2026-4C26-907D-E4C58AD5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F7C-201D-406C-B744-FEA61262F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3F6D-7952-49BC-B198-CC7306E2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9A1B-8A43-45C1-8521-EBF7783E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46A0-F4CD-430D-A92E-D3520FA7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8DDC-B673-4A94-AE40-6977798E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4ABE-E19A-4063-B4BD-B433A716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C065-5F07-4CA1-9EEC-96758469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55F4-AA99-471C-B4C8-AE5C0996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3366-0891-4890-A2D2-505654C7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474-0130-4A05-9FB9-E4055B7B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8E14-9D0C-4563-81CB-AAC0030C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5F02-3AA2-40A2-898B-370E5685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8325-0BFA-494A-918D-7C5C166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C9FB-9E01-4704-A9BF-8D8AD8EE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A73D-DB34-4367-B55F-9E6913F8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5EF-10BE-4596-922B-8769FCE3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96B-54FC-4463-882C-9484EAE2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D54F-21CB-471A-86E6-C973129AE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3EE9-49B7-4DD8-83A5-AF4E5BA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706-A781-41E4-BA3C-0E7333BE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35D-1D58-4973-8B3D-9A2FD12C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994-73BD-4664-86B6-8024F749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399C-10BB-4D99-8871-0F5D5ECFD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4BCC-3E6B-4053-94B3-38F677118E7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Rapid Response Teams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Staff Developmen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en to call RR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logic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hange in LOC from bas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nset of confusion, lethargy,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gitation or unrespon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nset, repeated, or prolonged seizu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8953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en to call RR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ine output less than 30 ml/hr x 2 hou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in a post-op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ine output less than 50 ml/hr x 4 hours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in other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104616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en to call RR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xpected excessive bl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 to respond to treatment (ex. Pa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unrelieved despite med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’s “gut feel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feels that “something is wro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05120" y="228600"/>
            <a:ext cx="17240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Times New Roman"/>
              </a:rPr>
              <a:t>To Call RRT:  Dial (Switchboard #)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371600" y="2241720"/>
          <a:ext cx="3733920" cy="35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41720"/>
                    <a:ext cx="373392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e for RRT to respond to pati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at will the RRT do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e SBAR approach to patient care the team will  help the primary care nurse assess the situation, obtain background information, assess the patient, and recommend 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RT will implement interventions per protocol and based on this 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RT documents actions and care provided on Rapid Response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apid Response Team Bag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am will bring a RRT Bag loaded with equipment to assist respirations, start IV’s, Suction equipment, syring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les, tape, stethoscope, B/P cu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371600" y="2617920"/>
            <a:ext cx="37339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apid Response Te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esigned to assist the RN and patient’s in need before the situation leads to an ar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should not be a negative response to a call nor should the caller of the RRT be second gu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apid Response Team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ng an environment in which it is easy to ask for help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se alarms can and will occur…our patients come fir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et’s Practice!!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733920" y="1600200"/>
            <a:ext cx="30985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apid Response Team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 that you are NOT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use our new team to help you with patients whom you identify as nee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PID RESPONS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71600" y="221148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gnize the indications/criteria for initiating R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process in initiating R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what their role and responsibilities are with R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learned skills to the case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Let’s Practic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828800"/>
            <a:ext cx="76201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will you respond to each scenari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Call the attending provid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Call the R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 Call a “Code Blue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your </a:t>
            </a:r>
            <a:r>
              <a:rPr b="1" lang="en-US" sz="3200" spc="-1" strike="noStrike" u="sng">
                <a:solidFill>
                  <a:srgbClr val="d54f41"/>
                </a:solidFill>
                <a:uFillTx/>
                <a:latin typeface="Times New Roman"/>
              </a:rPr>
              <a:t>ra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d54f41"/>
                </a:solidFill>
                <a:uFillTx/>
                <a:latin typeface="Times New Roman"/>
              </a:rPr>
              <a:t>criter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the answer you giv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cenario On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 year old female admitted to hospital f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ion of fluctuating blood sugar.  Nu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s patient unconsc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cenario Tw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9 year old male admitted to hospital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st pain and cardiac work-up.  On day #3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complains of GI upset and reports that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akes Maalox for this at home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cenario Thre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27360" y="16416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167652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 year old post-op orthopedic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ains of sudden onset of difficu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ing and BP 90/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cenario Four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6 year old male admitted for hernia repa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nd unresponsive in bathroom. No pu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blood observed on floor from h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cenario Five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 year old post-op orthopedic pati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ains of sudden onset of difficul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thing and BP 90/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cenario Six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9 year old male admitted for abdomi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n.  Puts on call bell.  Tells respo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rse “feel like I am going to pass out”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t rate 128, BP 100/70, RR 22, 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6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Scenario Seven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182880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 year old male post-cath. Complain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dden onset of chest pain.  Heart rate 13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180/90, RR 24, 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at 9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y Rapid Response?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support for the staff nurse for a patient  who is deterio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tervene promptly so that the situation may be cor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sist the staff nurse with administration of medications and treat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Rapid Response Teams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the number of Code Blues in the hos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prevent need to transfer patient to a higher level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fit all the piece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371600" y="2232000"/>
            <a:ext cx="37339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o is on the RRT?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Care Nu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 Therap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U or ICU Nu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use Supervisor (may be added if nee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o can call the RRT?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57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733920" cy="2486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486400" y="2971800"/>
            <a:ext cx="2620800" cy="3276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83280" y="438480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imary Care N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0320" y="225108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tient’s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en to Call the RR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tened Air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nset of shortness of bre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ory rate less than 8 or greater than 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in O2 Sat of less than 90% with supplemental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10872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When to Call RR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iovascu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t rate less than 45 or over 130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heart rate over 1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olic B/P less than 90 or over 190 with s/s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chest pain, dyspnea, diaphoresis,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neurological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108720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call RR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diovascul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change in patient’s extremi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(dusky, pale, gray, or blu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onset or recurring chest p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167004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59:45Z</dcterms:created>
  <dc:creator>bunpa</dc:creator>
  <dc:description/>
  <dc:language>en-US</dc:language>
  <cp:lastModifiedBy>Jean Fisher</cp:lastModifiedBy>
  <dcterms:modified xsi:type="dcterms:W3CDTF">2008-02-27T15:46:01Z</dcterms:modified>
  <cp:revision>17</cp:revision>
  <dc:subject/>
  <dc:title>Rapid Response Teams</dc:title>
</cp:coreProperties>
</file>