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203-D240-41AB-8ACD-611F9C68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79F-46E0-4D7B-BC9D-35E2C878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D241-14F6-428B-9F95-D321802C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E32-5119-4F06-B1AB-8A52228D2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98E-EFA7-4F58-9254-1095337A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4744-AFFB-446F-932E-2A20CEB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C74-3C9C-4EAC-8AEE-B321DADC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871-0775-4E98-A4B2-A655771B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4DA5-34F5-40F6-BD7C-3AC5C86D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E9C6-98A8-4C5F-8244-AC85AEB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CF5-7A1E-482B-AA75-2B4E329B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11E-709B-4F7F-8C0F-63526657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8745-3BF3-48F6-9453-2465A54AF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Response Team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Membe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Ac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IR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ed Airway (strider or compromis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Rate&lt;8 - &gt;28 breaths/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2 SAT &lt; 90% with supplemental oxygen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Ac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IR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&lt; 45 - &gt; 130 beats/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BP &lt; 90 - &gt; 190 or DBP &gt; 100 mm Hg with symptoms (neurologic change, chest pain, difficulty breath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hange (of extremity) pale, dusky, gray or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ute decreased     capillary refill &gt; 2 seconds with evidence of decreased tissue per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Ac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UROLOG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itation or deli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in ment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loss of movement (or weakness) of face, arm or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output &lt; 50 ml in 4 hours without history of renal dys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Ac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SCELLANE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trolled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onset of shortness of breath or chest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to respond to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cant bl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Ac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family or employee is feeling uncomfortable about a patient but no obvious reason kn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oes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responds within 5 minutes of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U/CCU reports with a cardiac mon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Therapist reports with the supply cart/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ment to the team will be the responsibility of the charge nurse and RC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RT Role Upon Arr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bi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with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e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with transfer (if necessa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Primary Care N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report to the R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es with th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the SBAR method for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ICU/CCU N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report from primary care n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patient to identif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severity of oc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y the provider using SBAR communicatio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e any therapy required and remain at the bedside for further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 RR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routine arrhythmia orders or ACLS protocols as indicated by the patien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transfer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ificatio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ait more than 5 minutes between atte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no response from the provider after 2 attempts, notify the provider on call for the patient’s primar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he chart and medication list is avail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ze the indications/criteria for initiating R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process in initiating R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what their role and responsibilities are with R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 learned skills to the cas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mmen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calling about &lt;patient name and location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’s code status is &lt;code status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blem I am calling about is__________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concerned the patient is going to arr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ve just assessed the patient personall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tal signs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____/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____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concerned about th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pressure because it is over 200 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100 or 30 mmHg below us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 because it is over 140 or less than 50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ion because it is less than 5 or over 40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because it is less than 96 or over 1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grou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tient’s mental status is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rt and oriented to person place an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used and cooperative or non-co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itated or comb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hargic but conversant and able to swa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porous and not talking clearly and possibly not able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tose.  Eyes closed.  Not responding to stimul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ki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m and 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phor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ities are c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ities are w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atient is not or is on oxyge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atient has been on ____(l/min) or (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ygen for ____minutes (hou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ximeter is reading ____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ximeter does not detect a 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lse and is giving erratic read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what I think the problem is: &lt;say what yo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is the problem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seems to be cardiac  infe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ic  respirator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not sure what the problem is but the patient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ior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ient seems to be unstable and ma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, we need to do some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SB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mme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uggest or request that you &lt;say what you w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o see done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the patient to a higher level of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to see the patient at thi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to the patient or family about cod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the on-call family practice resident to se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for a consultant to see the patient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le of the Respiratory Therap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st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xygen sat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oxygen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ain an AB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 nebulized medication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airway management as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with transfer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am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clinical personnel with critical car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ed to evaluate and manage a patient which may be rapidly deterio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e of the Nursing Supervi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other staff members to “watch” other patients for th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 management if transfer is nece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with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Response Team Re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RT will document on the designated RRT Documentation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rse will properly transcribe physician orders in the patient chart and MAR as indi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cument will be filed in the patient chart under the Progress Notes s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RT Implementation will review RRT responses to identify opportunities for education and/or improv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Response Cr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effort to improve patient outcomes and advance communication among patient caregivers, a critique of the team performance will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return to the Patient Safe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se questions as you read the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you respond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assessment of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scena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1 year old female admitted to hospital for evaluation of fluctuating blood sugar.  Nurse finds patient unconsc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 year old male admitted to hospital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st pain and cardiac work-up.  On day #3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complains of GI upset and reports that 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takes Maalox for this at hom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9 year old post-op orthopedic pat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ains of sudden onset of difficul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thing and BP 90/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6 year old male admitted for hernia repai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unresponsive in bathroom. No pul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blood observed on floor from h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year old female admitted with headac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ypertension.  Sudden onset of slur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ch and inability to move left 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9 year old male admitted for abdomi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.  Puts on call bell.  Tells respo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rse “feel like I am going to pass out”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t rate 128, BP 100/70, RR 22,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RT Goal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cue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avoidable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enario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 year old male post-cath. Complai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den onset of chest pain.  Heart rate 130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 180/90, RR 24, 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at 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R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designed to assist the RN and patient’s in need before the situation leads to an ar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should not be a negative response to a call nor should the caller of the RRT be second gu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RT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n environment in which it is easy to ask for hel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e alarms can and will occur…our patients come fir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n R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show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die unnecessarily every day in a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s of determination present 6 to 8 hours before an unexpected cardiac ar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intervention often prevents code situation and ICU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Are the Team Memb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U/CCU Nurse or Nursing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y Therap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Care N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ation of the R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the Switchboard 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the RRT be ac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 patient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6:10:58Z</dcterms:created>
  <dc:creator>Jean Fisher</dc:creator>
  <dc:description/>
  <dc:language>en-US</dc:language>
  <cp:lastModifiedBy>Jean Fisher</cp:lastModifiedBy>
  <dcterms:modified xsi:type="dcterms:W3CDTF">2008-02-27T15:37:16Z</dcterms:modified>
  <cp:revision>11</cp:revision>
  <dc:subject/>
  <dc:title>Rapid Response Team Training</dc:title>
</cp:coreProperties>
</file>