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B19-A4D7-431F-A1CD-3C2A83D69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80A7-5E1F-4C34-8B90-514EE03C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21A-B68E-428D-BAEF-54613BBA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2D4-3D85-4108-9B8A-5E731BCCD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14B-6DBF-4BCB-8B6E-DC1F12DE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FBF8-C20B-4E22-A045-C6FD72FA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E37-A06D-4392-B22B-52D6EE0F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21F-AE20-493C-B79F-BE9F1473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92A-5DC8-48F4-821E-34B61B11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80B-0886-428D-B644-60935876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5CE-7973-41DE-9792-9C6DF567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3FF-CD7F-40E8-8E08-12743328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ABCE-6F0E-4C4F-8E55-60E917FEB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620640"/>
          <a:ext cx="9143640" cy="6237360"/>
        </p:xfrm>
        <a:graphic>
          <a:graphicData uri="http://schemas.openxmlformats.org/drawingml/2006/table">
            <a:tbl>
              <a:tblPr/>
              <a:tblGrid>
                <a:gridCol w="2060640"/>
                <a:gridCol w="4806360"/>
                <a:gridCol w="1052280"/>
                <a:gridCol w="1224360"/>
              </a:tblGrid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ormu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Number of Cases Benefiting from R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Patient Days Saved via RRT in these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tential Bed Days of RRT-Associated Added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 x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verall Hospital A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tential Annual Additional Admissions Because of R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 /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verage Hospital Net Revenue per C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otential Annual Incremental RRT-Associated Reve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 x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Cost of Rapid Response Te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32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fit (Loss) associated with R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 - 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ne Time RRT Implementation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p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776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nual Return on Investment for R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 /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RRT Benefit Calcul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21:55:50Z</dcterms:created>
  <dc:creator>Jean Fisher</dc:creator>
  <dc:description/>
  <dc:language>en-US</dc:language>
  <cp:lastModifiedBy>Jean Fisher</cp:lastModifiedBy>
  <dcterms:modified xsi:type="dcterms:W3CDTF">2008-01-31T15:41:13Z</dcterms:modified>
  <cp:revision>2</cp:revision>
  <dc:subject/>
  <dc:title>Slide 1</dc:title>
</cp:coreProperties>
</file>