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7D5FB-DD57-42CB-B1D6-77D3D9DD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udy of Medicare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nearly one in five hospitalizations resulted 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mission within 30 days of discharge and that three-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could have been prevented by better coordinated care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ice tag to Medicare alone for these readmissions was $15 bill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ncks, S.F.,Williams,M.V., &amp; Coleman, E.A. (2009). Rehospitalizations among patients in the Medicare fee-for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. New England Journal of Medicine 360(14), 1418-14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ckbarth, G.M. (2009, March 10). Reforming the health care delivery system. Testimony of the Medi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ment Advisory Commission Chairman before the Committee on Energy and Commerce, U.S. Hous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6400" cy="41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and families hate it that we can’t make thi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hand-offs lead to delays or other problems in care that may be dangerous to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enormous waste associated with unnecessary referrals, duplicate testing, unwanted and unnecessary specialist to specialist refer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are practice will be more reward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770-4287-443E-B928-DC2A6A04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218-3C29-4B6B-8123-CE5474A9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033-A31E-41E0-8A54-AC0773F3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DDF-2F07-4BCE-AC75-01D3EF73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F6D9-0751-41C9-B865-61FC3389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DC2-A7E5-437E-9693-6352AB9B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B87F-0878-4F11-9A64-40B9825E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FDA2-AED9-4C7F-8EB5-720D5368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B4F-C52C-4724-A99F-2EA17D51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1E39-D567-438E-8681-6AA7530A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E711-772E-41C1-86BC-94DC023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2FD-5004-4F7E-85AB-DDA28D6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C63C-7D85-47C6-96F1-261B69BA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8968-AC9A-4997-B806-FF417961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B439-B114-4C84-AF53-1F7F82C6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BC5-CB6C-4961-899B-A42A4F5E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FE80-3464-4C84-A3CC-31622F2E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17532-DAF3-4216-84F2-93DBE5C9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28E2-4338-497B-A0BF-2DF70C14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F7BF-9727-472C-96F8-68B4010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7890-8D7E-48D4-B59E-9297849A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4A6B-5BC2-4F0F-869E-51DB08A8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993-AA49-4112-9A4E-9C3295FE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783E7-F9F1-4382-B61D-FFBCEE4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F8E2-E836-420C-9041-6893F22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A635-BBD0-4B72-9F89-2CFD3D4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2977-D123-4E79-852E-C3876E10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2BB4-1FD4-41D8-B48A-C402494C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EFF3-426F-4D1F-9527-5A826D03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82964-7E1F-44A6-9DA5-9DA95C07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01F70-F83D-4A3E-A1FB-85E1FE5C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03D7-4D1D-4A71-A6D2-17CAB381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BAE0E-CC7C-4E33-B8EA-6EEDD2F9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9DE-9E8B-4BDC-80EB-733ED16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1D333-0108-4344-8604-DDC9159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B512-79C5-4D74-87BD-5EB1B57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E7CDF-C717-4564-9F32-E72D8FF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10D1A-085B-4644-9791-712FC7C5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7D02-3DEF-44E9-911B-488F5DEB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7622C-1FA8-472B-9195-63B71A4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0208-60B5-4720-B131-BDDB653B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27073-696F-41DF-8A40-B948136F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A1D8-84ED-40EA-9117-C1097964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6959B-D879-470E-8326-A25AA9B7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D8B-0307-4E31-AE6D-7D6BA780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76469-C1F3-4453-B130-31A4F299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A7087-CB1A-4C25-A127-EA24245F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42445-4892-4FAF-838D-F3A1A815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7409D-B26B-484C-A6A2-8B0D1EA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61234-1AA1-41AA-90C0-C0EF6FFB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7E2E-92BD-44A5-B5FC-2C66CA4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CCE7E-14FA-4680-BF23-60B244B7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1BC0-C2E6-4C0E-A0AB-851C2A01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B2DA1-F260-470A-B8B7-E4D80853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CE8F-3D8B-45F9-8BAA-280628AA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B17-B8F6-47BE-BA04-71901720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8B6F-C9B7-41C6-9DF4-DDEE0E8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48173-8705-42BB-94DB-E7E96C8C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5B970-7E4A-4376-B58D-4E60427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06FF7-6FF1-49FE-A5AE-D14D8D38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9D08-2BAB-452D-AD2A-31C938EA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51AB-356C-43AD-878E-6720D04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94140-AA07-4C0B-AC49-7976838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DB95-9744-46B0-B886-EF2CFA2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949A2-766E-4F26-9AEB-F0E39C1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6EFAC-CE07-483C-AA26-EB5A09EE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4A-12FD-4EB4-BA5B-E915048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80DEC-5325-45B1-9D42-4A7428A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66C51-4522-4934-8D84-CD890E1B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9B766-BEA6-4321-991B-C674E291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6EDB5-927D-4958-9DAA-66BCB7B3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91C69-CE66-4F4A-A171-15B17D33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C0FF-8B7C-45FF-BBFC-F0A56F10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4B61-79C4-4176-8265-160A949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60C1-917A-4778-892B-C156414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89660-E1A0-466A-8688-762BB644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7FC56-97BA-4167-A960-5ED3BA1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709-A716-4E75-ADBF-4F77D1CF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95B13-E94F-43FA-B1FC-6866694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01715-1E1D-4E11-8EF8-2BA7210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6E891-FAED-488B-85D6-9B18A1BB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F06F0-9739-4DC0-B8DD-9C3BCE31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F34A7-EACB-4C1F-9A6A-8D73491F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923-AE22-45CD-9836-DD95A0F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F0D6E-9391-49EF-BF66-7B9FDB2E5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177840" y="-1320840"/>
            <a:ext cx="9499680" cy="949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B02C2-08BE-4873-AAC0-C5BAC6C54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-177840" y="-1320840"/>
            <a:ext cx="9499680" cy="9499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FB9F6-B83A-41A4-AB73-C20A60088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-4749840" y="-1252440"/>
            <a:ext cx="9499680" cy="949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5CB04-6868-4BF4-8220-0B23AEC76C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"/>
          <p:cNvPicPr/>
          <p:nvPr/>
        </p:nvPicPr>
        <p:blipFill>
          <a:blip r:embed="rId2"/>
          <a:stretch/>
        </p:blipFill>
        <p:spPr>
          <a:xfrm rot="15901200">
            <a:off x="-4292640" y="-1015560"/>
            <a:ext cx="9499680" cy="9499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D86F8-B22E-4B66-BE6B-D71F87F80B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"/>
          <p:cNvPicPr/>
          <p:nvPr/>
        </p:nvPicPr>
        <p:blipFill>
          <a:blip r:embed="rId2"/>
          <a:stretch/>
        </p:blipFill>
        <p:spPr>
          <a:xfrm>
            <a:off x="-6621480" y="-2084400"/>
            <a:ext cx="10287000" cy="9487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6E62A-6A1B-4513-843C-DAD09332E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-6616800" y="-2076480"/>
            <a:ext cx="10287000" cy="9487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2B7A6-1864-47AB-984A-2C1F8772A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ing Care Fragmentation: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 ON COORDINATING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02680" y="3886200"/>
            <a:ext cx="8674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cColl Institute for Healthcare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Health Research Instit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atient-centered Medical H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Text Placeholder 2" descr=""/>
          <p:cNvPicPr/>
          <p:nvPr/>
        </p:nvPicPr>
        <p:blipFill>
          <a:blip r:embed="rId1"/>
          <a:stretch/>
        </p:blipFill>
        <p:spPr>
          <a:xfrm>
            <a:off x="490680" y="1332000"/>
            <a:ext cx="3047760" cy="507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3772080" y="1243080"/>
            <a:ext cx="511632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7000"/>
              </a:lnSpc>
              <a:spcBef>
                <a:spcPts val="15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ヒラギノ角ゴ Pro W3"/>
              </a:rPr>
              <a:t>Key Featur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gage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Quality improvemen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mpanel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atient-centered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Organized, evidence-based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re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nhanced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7000"/>
              </a:lnSpc>
              <a:spcBef>
                <a:spcPts val="1500"/>
              </a:spcBef>
              <a:buClr>
                <a:srgbClr val="002448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ntinuous, team-based health relationshi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"/>
          <p:cNvSpPr/>
          <p:nvPr/>
        </p:nvSpPr>
        <p:spPr>
          <a:xfrm>
            <a:off x="4157640" y="4357800"/>
            <a:ext cx="2770200" cy="69840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1351080" y="3529080"/>
            <a:ext cx="887400" cy="576360"/>
          </a:xfrm>
          <a:prstGeom prst="ellipse">
            <a:avLst/>
          </a:pr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ng Care Coord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deliberate organization of patient c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ctivities between two or more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olved in a patient’s care to facilitate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ppropriate delivery of health care serv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cDonald, 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825640" y="4457880"/>
            <a:ext cx="1420920" cy="174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907920" y="4457880"/>
            <a:ext cx="1417680" cy="173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804000" y="4460760"/>
            <a:ext cx="1436760" cy="176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4788000" y="4473720"/>
            <a:ext cx="1455480" cy="174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"/>
          <p:cNvSpPr/>
          <p:nvPr/>
        </p:nvSpPr>
        <p:spPr>
          <a:xfrm>
            <a:off x="2362320" y="4984920"/>
            <a:ext cx="3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/>
          <p:nvPr/>
        </p:nvSpPr>
        <p:spPr>
          <a:xfrm>
            <a:off x="6294600" y="4968720"/>
            <a:ext cx="3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4332240" y="4983120"/>
            <a:ext cx="3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080" y="2743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constitutes a high quality referral or transi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1708200"/>
                <a:gridCol w="652140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e of Medicine’s (IOM) report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ing the Quality Chasm: A New Health System, for the 21</a:t>
                      </a:r>
                      <a:r>
                        <a:rPr b="0" i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entur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nned and managed to prevent harm to patients from medical or administrative error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scientific knowledge, and executed well to maximize their benef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tients receive needed transitions and consultative services without unnecessary delay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-cente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sponsive to patient and family needs and preference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d to necessary referrals, and avoids duplication of servi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90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 availability and quality of transitions and referrals should not vary by the personal characteristics of patients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re Coordination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Text Placeholder 2" descr=""/>
          <p:cNvPicPr/>
          <p:nvPr/>
        </p:nvPicPr>
        <p:blipFill>
          <a:blip r:embed="rId1"/>
          <a:stretch/>
        </p:blipFill>
        <p:spPr>
          <a:xfrm>
            <a:off x="901800" y="1347840"/>
            <a:ext cx="72770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80960" y="1333440"/>
            <a:ext cx="7483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ssu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664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atient suppor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664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il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s &amp; agre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664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velop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ne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6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36600" y="1600200"/>
            <a:ext cx="1022400" cy="10224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58920" y="281304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358920" y="3990960"/>
            <a:ext cx="1022040" cy="10224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380880" y="522288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1 Assume Accoun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276720" y="1574280"/>
            <a:ext cx="50925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ide as a primary care clinic to improve care coordin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 a referral/transition tracking syste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905040" y="15876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#2 Provid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ient Sup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98880" y="1600200"/>
            <a:ext cx="5587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e the practice team to support patients and families during referrals and trans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coordina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ks all referrals and trans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patient (and family) with information about refer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es barriers to refer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s up on missed appoin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917640" y="160020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tient Support ≠ Case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"/>
          <p:cNvSpPr/>
          <p:nvPr/>
        </p:nvSpPr>
        <p:spPr>
          <a:xfrm>
            <a:off x="4305240" y="2209680"/>
            <a:ext cx="6226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Car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/>
          <p:nvPr/>
        </p:nvSpPr>
        <p:spPr>
          <a:xfrm>
            <a:off x="1410120" y="5486400"/>
            <a:ext cx="11545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Log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2934000" y="4038480"/>
            <a:ext cx="11545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Log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"/>
          <p:cNvSpPr/>
          <p:nvPr/>
        </p:nvSpPr>
        <p:spPr>
          <a:xfrm>
            <a:off x="4381920" y="2971800"/>
            <a:ext cx="11545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alibri"/>
              </a:rPr>
              <a:t>Logis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4379760" y="2666880"/>
            <a:ext cx="218628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linical Monito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190440" y="1523880"/>
            <a:ext cx="136044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% of pa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/>
          <p:nvPr/>
        </p:nvSpPr>
        <p:spPr>
          <a:xfrm>
            <a:off x="482760" y="2127240"/>
            <a:ext cx="6984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"/>
          <p:cNvSpPr/>
          <p:nvPr/>
        </p:nvSpPr>
        <p:spPr>
          <a:xfrm>
            <a:off x="489960" y="3498840"/>
            <a:ext cx="6897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496440" y="5099040"/>
            <a:ext cx="68976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/>
          <p:nvPr/>
        </p:nvSpPr>
        <p:spPr>
          <a:xfrm>
            <a:off x="1181160" y="48769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/>
          <p:nvPr/>
        </p:nvSpPr>
        <p:spPr>
          <a:xfrm>
            <a:off x="2705040" y="34290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4229280" y="21337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9" name=""/>
          <p:cNvCxnSpPr/>
          <p:nvPr/>
        </p:nvCxnSpPr>
        <p:spPr>
          <a:xfrm flipV="1">
            <a:off x="2704680" y="3409560"/>
            <a:ext cx="108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87" idx="0"/>
            <a:endCxn id="388" idx="0"/>
          </p:cNvCxnSpPr>
          <p:nvPr/>
        </p:nvCxnSpPr>
        <p:spPr>
          <a:xfrm flipV="1">
            <a:off x="4228920" y="2114280"/>
            <a:ext cx="1080" cy="1334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1181160" y="4876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1311120" y="5029200"/>
            <a:ext cx="3962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Coordin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/>
          <p:nvPr/>
        </p:nvSpPr>
        <p:spPr>
          <a:xfrm>
            <a:off x="2759040" y="3581280"/>
            <a:ext cx="48690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Follow-up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6616080" y="2666880"/>
            <a:ext cx="20826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alibri"/>
              </a:rPr>
              <a:t>Medication Mg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2400480" y="6324480"/>
            <a:ext cx="640080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©MacColl Institute for Healthcare Innovation, Group Health Research Institute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561640" y="2971800"/>
            <a:ext cx="21787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Self-mgmt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4049640" y="4037040"/>
            <a:ext cx="218628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linical Monito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#3 Build Relationships &amp; Agreement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340080" y="1600200"/>
            <a:ext cx="534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, develop and maintain relationships with key specialist groups, hospitals and community ag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greements with these key groups and agen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s lear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 through the process for a “typical” patient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the system and not the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92080" y="16002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4160" y="304920"/>
            <a:ext cx="8597880" cy="6248160"/>
          </a:xfrm>
          <a:prstGeom prst="flowChartTerminator">
            <a:avLst/>
          </a:prstGeom>
          <a:solidFill>
            <a:srgbClr val="ff9900">
              <a:alpha val="2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might you star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alibri"/>
              </a:rPr>
              <a:t>Community Agenc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ing &amp; following up on lab/imagining result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&amp; tracking of linkages to community resourc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alibri"/>
              </a:rPr>
              <a:t>Medical Speciali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s for referral, prior tests, and informat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about future care and specialist-to-specialist referr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 for information back to PCM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alibri"/>
              </a:rPr>
              <a:t>EDs/ Hospital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 of visit/admission and discharg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reconciliation after transitio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ment of PCMH in post-discharge ca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8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ise your hand if the following are not rare events in your practic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4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know the people to whom you are referring pati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ists complain about the information you send with a refer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don’t hear back from a specialist after a consul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patient complains that the specialist didn’t seem to know why s/he was t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referral doesn’t answer your ques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r patient doesn’t come back to see you after a consul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pecialist duplicates tests you have already perform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are unaware that your patient was seen in the 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were unaware that your patient was hospit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" descr="Hand Clip Art"/>
          <p:cNvPicPr/>
          <p:nvPr/>
        </p:nvPicPr>
        <p:blipFill>
          <a:blip r:embed="rId1"/>
          <a:stretch/>
        </p:blipFill>
        <p:spPr>
          <a:xfrm>
            <a:off x="3230564040" y="-33480"/>
            <a:ext cx="2086200" cy="2838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Hand Clip Art"/>
          <p:cNvPicPr/>
          <p:nvPr/>
        </p:nvPicPr>
        <p:blipFill>
          <a:blip r:embed="rId2"/>
          <a:stretch/>
        </p:blipFill>
        <p:spPr>
          <a:xfrm>
            <a:off x="7580160" y="338040"/>
            <a:ext cx="10479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#4 Develop Connectiv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 and implement an information transfer syst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elements of syst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s information needs and expectations (per agreeme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ures that information transmits to correct dest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milestones in the referral process can be trac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erring clinicians and consultants can communicate with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942840" y="16002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lectronic Referral (e-referral)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b-based, and may or not be connected to EM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ness depends on consultants or hospitals particip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embed referral guidelines and other elements of agre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monitor completion of referrals and return of information to the PCM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s of e-referral systems often gravitate to experimenting with e-consul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hy make care coordination a priority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and families are frustrated by fragmented “silos” in health ca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hand-offs lead to delays and miscommunications in care that may be dangerous to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enormous waste associated with unnecessary referrals, duplicate testing, unwanted and unnecessary specialist to specialist refer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care practice will be more reward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528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579600" y="482760"/>
            <a:ext cx="793728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1296360" y="2635200"/>
            <a:ext cx="7036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2448"/>
                </a:solidFill>
                <a:latin typeface="Arial"/>
              </a:rPr>
              <a:t>www.improvingchroniccare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807480" y="1743120"/>
            <a:ext cx="412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448"/>
                </a:solidFill>
                <a:latin typeface="Arial"/>
              </a:rPr>
              <a:t>Check out our toolkit at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ood Old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Text Placeholder 2" descr=""/>
          <p:cNvPicPr/>
          <p:nvPr/>
        </p:nvPicPr>
        <p:blipFill>
          <a:blip r:embed="rId1"/>
          <a:stretch/>
        </p:blipFill>
        <p:spPr>
          <a:xfrm>
            <a:off x="1955880" y="1839960"/>
            <a:ext cx="54738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Fragmentation of C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174480" y="1600200"/>
            <a:ext cx="551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tients experience and clinicians operate in “silos” of care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ferral networks are larg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often depersonalize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1663560"/>
            <a:ext cx="2714760" cy="36198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16000" y="6184800"/>
            <a:ext cx="864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ham HH, O'Malley AS, Bach PB, Saiontz-Martinez C, Schrag D. Primary care physicians' links to other physicians through Medicare patients: the scope of care coordination. Ann Intern Med. Feb 17 2009;150(4):236-2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248760"/>
            <a:ext cx="911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atients Report Experiencing Poor Coordin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325440" y="6245280"/>
            <a:ext cx="6234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Commonwealth Fund Survey of Public Views of the U.S. Health Care System, 2008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04920" y="1371600"/>
            <a:ext cx="8434440" cy="4724280"/>
            <a:chOff x="304920" y="1371600"/>
            <a:chExt cx="8434440" cy="4724280"/>
          </a:xfrm>
        </p:grpSpPr>
        <p:sp>
          <p:nvSpPr>
            <p:cNvPr id="315" name="Text Box 9"/>
            <p:cNvSpPr/>
            <p:nvPr/>
          </p:nvSpPr>
          <p:spPr>
            <a:xfrm>
              <a:off x="304920" y="1371600"/>
              <a:ext cx="5006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Calibri"/>
                  <a:ea typeface="ＭＳ Ｐゴシック"/>
                </a:rPr>
                <a:t>Percent U.S. adults reported in past two years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4"/>
            <p:cNvSpPr/>
            <p:nvPr/>
          </p:nvSpPr>
          <p:spPr>
            <a:xfrm>
              <a:off x="380880" y="4419720"/>
              <a:ext cx="366408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 one contacted you about test results, or you had to call repeatedly to get results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387360" y="3048120"/>
              <a:ext cx="3343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est results/medical records were not available at the time of appointment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18"/>
            <p:cNvSpPr/>
            <p:nvPr/>
          </p:nvSpPr>
          <p:spPr>
            <a:xfrm>
              <a:off x="396720" y="2411280"/>
              <a:ext cx="34959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Your primary care doctor did not receive a report back from a specialist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 Box 19"/>
            <p:cNvSpPr/>
            <p:nvPr/>
          </p:nvSpPr>
          <p:spPr>
            <a:xfrm>
              <a:off x="387360" y="5029200"/>
              <a:ext cx="29592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y of the above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320" name="Object 2"/>
            <p:cNvGraphicFramePr/>
            <p:nvPr/>
          </p:nvGraphicFramePr>
          <p:xfrm>
            <a:off x="2673360" y="1752480"/>
            <a:ext cx="6066000" cy="434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1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73360" y="1752480"/>
                      <a:ext cx="6066000" cy="434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Text Box 14"/>
            <p:cNvSpPr/>
            <p:nvPr/>
          </p:nvSpPr>
          <p:spPr>
            <a:xfrm>
              <a:off x="387360" y="3809880"/>
              <a:ext cx="34290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ctors failed to provide important medical information to other doctors or nurses you think should have it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Text Box 18"/>
            <p:cNvSpPr/>
            <p:nvPr/>
          </p:nvSpPr>
          <p:spPr>
            <a:xfrm>
              <a:off x="387360" y="1752480"/>
              <a:ext cx="38671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Your specialist did not receive basic medical information from your primary care doctor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Rectangle 33"/>
          <p:cNvSpPr/>
          <p:nvPr/>
        </p:nvSpPr>
        <p:spPr>
          <a:xfrm>
            <a:off x="6981840" y="47520"/>
            <a:ext cx="2133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46800" anchor="t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0"/>
          <p:cNvGraphicFramePr/>
          <p:nvPr/>
        </p:nvGraphicFramePr>
        <p:xfrm>
          <a:off x="609480" y="1447920"/>
          <a:ext cx="78393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8393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2"/>
          <p:cNvSpPr/>
          <p:nvPr/>
        </p:nvSpPr>
        <p:spPr>
          <a:xfrm>
            <a:off x="3240" y="227160"/>
            <a:ext cx="914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monwealth Survey of PC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355680" y="1219320"/>
            <a:ext cx="79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Percent reporting that they receive information back for “almost all” referrals (80% or more) to Other Doctors/Specialis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43080" y="6337440"/>
            <a:ext cx="914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Source: 2006 Commonwealth Fund International Health Policy Survey of Primary Care Physician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nicians Also Report Fragmented C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4920" y="1628280"/>
            <a:ext cx="79563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3% of primary care providers and 35% of specialists are dissatisfied with their current referr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% of the time, primary care providers report receiving no information from specialists after their patient’s 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8% of the time, specialists report receiving no information from primary care before referral vi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216000" y="6189840"/>
            <a:ext cx="894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: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andhi TK, Sittig DF, Franklin M, Sussman AJ, Fairchild DG, Bates DW. Communication breakdown in the outpatient referral process. </a:t>
            </a:r>
            <a:r>
              <a:rPr b="0" i="1" lang="en-US" sz="1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J Gen Intern Med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p 2000;15(9):626-631.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41200" y="304920"/>
            <a:ext cx="8610840" cy="6248160"/>
          </a:xfrm>
          <a:prstGeom prst="flowChartTerminator">
            <a:avLst/>
          </a:prstGeom>
          <a:solidFill>
            <a:srgbClr val="ff9900">
              <a:alpha val="20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often do you get th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formation you need after referra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you think your patien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ould say about their experienc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y work on Care Coordinatio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/>
          <p:nvPr/>
        </p:nvSpPr>
        <p:spPr>
          <a:xfrm>
            <a:off x="5067360" y="198108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ty &amp;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/>
          <p:nvPr/>
        </p:nvSpPr>
        <p:spPr>
          <a:xfrm>
            <a:off x="4991040" y="525780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ctice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/>
          <p:nvPr/>
        </p:nvSpPr>
        <p:spPr>
          <a:xfrm>
            <a:off x="647712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78000" y="1905120"/>
            <a:ext cx="6238800" cy="4572000"/>
            <a:chOff x="378000" y="1905120"/>
            <a:chExt cx="6238800" cy="4572000"/>
          </a:xfrm>
        </p:grpSpPr>
        <p:sp>
          <p:nvSpPr>
            <p:cNvPr id="340" name=""/>
            <p:cNvSpPr/>
            <p:nvPr/>
          </p:nvSpPr>
          <p:spPr>
            <a:xfrm>
              <a:off x="454320" y="2057400"/>
              <a:ext cx="4343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Patient experien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2359080" y="2819520"/>
              <a:ext cx="425772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30280" y="5257800"/>
              <a:ext cx="4343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609480" indent="-6094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8000" y="380988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6912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69120" y="50292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18:15:12Z</dcterms:created>
  <dc:creator>John Jack Stoller</dc:creator>
  <dc:description/>
  <dc:language>en-US</dc:language>
  <cp:lastModifiedBy>cutsdj1</cp:lastModifiedBy>
  <dcterms:modified xsi:type="dcterms:W3CDTF">2011-04-20T18:19:49Z</dcterms:modified>
  <cp:revision>9</cp:revision>
  <dc:subject/>
  <dc:title>Slide 1</dc:title>
</cp:coreProperties>
</file>