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8.png" ContentType="image/png"/>
  <Override PartName="/ppt/media/image4.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334E-D473-4427-B9CC-E485C81E41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day we will be sharing the new isolation precaution signage that hospitals in West Virginia State are implementing. This is one of the many ways which West Virginia hospitals are working together to reduce harm to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we will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standardization of isolation precautions is impor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precautions and colors w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information in caring for patients in isolation preca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8FF6-B25C-4DF0-8E8D-65D5CC91D5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precautions is the basic level of care to be used on all patients all of th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o prevent the spread of infection to you and other patients.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cilities may choose to display this sign on all patient room doors even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atient is not in isolatio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precautions involv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ing good hand hygiene, ensuring that  respiratory hygiene is completed,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owns, gloves, mask, eye shield if touching or splashing of fluids, and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priate use of patient care equipment.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safe sharp usage practices and wear masks when performing certa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umbar injection procedures.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ning and disinfecting multi-use patient care equipment between patient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f I have any questio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estions related to isolation precautions, contact your hospital Infection </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ist.</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4334-B8E2-451C-95B0-BB3FA421CC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olation signage has three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caution signs for patient ro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ff instructions which are on the back of the sig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r coded patient, family, and visitor information sh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7BB0-FAB8-4177-B8C8-0029B5B1ED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mon conditions that use Contact Precau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drug resistant organism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bapenem resistant Gram-negative rods/ESBL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icillin-resistant </a:t>
            </a:r>
            <a:r>
              <a:rPr b="0" i="1" lang="en-US" sz="1100" spc="-1" strike="noStrike">
                <a:solidFill>
                  <a:srgbClr val="000000"/>
                </a:solidFill>
                <a:latin typeface="Calibri"/>
              </a:rPr>
              <a:t>Staphylococcus aureus </a:t>
            </a:r>
            <a:r>
              <a:rPr b="0" lang="en-US" sz="1100" spc="-1" strike="noStrike">
                <a:solidFill>
                  <a:srgbClr val="000000"/>
                </a:solidFill>
                <a:latin typeface="Calibri"/>
              </a:rPr>
              <a:t>(MRS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ncomycin-resistant </a:t>
            </a:r>
            <a:r>
              <a:rPr b="0" i="1" lang="en-US" sz="1100" spc="-1" strike="noStrike">
                <a:solidFill>
                  <a:srgbClr val="000000"/>
                </a:solidFill>
                <a:latin typeface="Calibri"/>
              </a:rPr>
              <a:t>Enterococcus </a:t>
            </a:r>
            <a:r>
              <a:rPr b="0" lang="en-US" sz="1100" spc="-1" strike="noStrike">
                <a:solidFill>
                  <a:srgbClr val="000000"/>
                </a:solidFill>
                <a:latin typeface="Calibri"/>
              </a:rPr>
              <a:t>(VR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abi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ounds or abscesses with uncontained drainag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y is orange for contact precau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ange was selected based on a statewide poll. This color is what was used in the standardization work of North Carolina, the only state that has standardized isolation precaution signage. West Virginia survey results did not show any consistent color in us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en are contact precautions used?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act precautions are used for patients known or suspected to be infected or colonized with organisms that are transmitted by contact with the patient or contaminated surfaces with organisms like MRS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ow does contact transmission occur?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nsmission can occur directly from the patient or from a surface the have touched. Contact precautions and good hand hygiene can keep you and your patients saf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at do contact precautions involv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act precautions consists of practicing good hand hygiene at all times, placing patient in a private room when possible, using gown and gloves, and use of disposable or dedicated equipment in addition to standard precau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o decides when a patient has to be placed in contact precau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urse or physician will decide if a patient should be placed in contact precautions. </a:t>
            </a:r>
            <a:br>
              <a:rPr sz="1100"/>
            </a:br>
            <a:r>
              <a:rPr b="1" lang="en-US" sz="1100" spc="-1" strike="noStrike">
                <a:solidFill>
                  <a:srgbClr val="000000"/>
                </a:solidFill>
                <a:latin typeface="Calibri"/>
              </a:rPr>
              <a:t>Who decides when a patient can be taken out of contact precautions? </a:t>
            </a:r>
            <a:r>
              <a:rPr b="0" lang="en-US" sz="1100" spc="-1" strike="noStrike">
                <a:solidFill>
                  <a:srgbClr val="000000"/>
                </a:solidFill>
                <a:latin typeface="Calibri"/>
              </a:rPr>
              <a:t>Follow facility policy or contact your hospital’s Infection Preventionist if you have ques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9B33-7565-4E40-8EAE-4240C0B2DE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ck of each sign is an easy resource for physicians and sta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helpful tip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using gloves, it is important to remember to wash or gel hands prior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utting the gloves on and after taking them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tective equipment should be put on at the doorway and rem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leaving the room. Do not carry dirty gowns, gloves, or masks outside of the room or dispose of them at the nurses s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ff should don protective equipment when entering the room as you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ly to either touch the patient or equipment that may be contaminated. Help keep yourself and other patient’s saf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porting patients on contact isolation, place the patient in a clean gown. Make sure the receiving department is alerted to the patient’s isolation precaution stat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D8C6-C150-4462-B9EA-E8D7BE438A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the color coded Patient, Family, and Visitor sign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them t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n hands when entering and leaving 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where thy go outside the room unless given permission by the nurses so that germs are not spread to other pati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hysicians and staff to wash or sanitize their han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visitors to close contacts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CD6E-097B-462B-B1F4-E7B5BB2F41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the color coded Patient, Family, and Visitor sign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ells them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n hands when entering and leaving 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where they go outside the room unless given permission by the nurses so that germs are not spread to other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hysicians and staff to wash or sanitize their h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visitors to close contacts on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7B3A-0953-4F26-9E15-B548BFA9BA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on Conditions which use precautio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ute diarrhea with unknown etiolog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ostridium </a:t>
            </a:r>
            <a:r>
              <a:rPr b="0" i="1" lang="en-US" sz="1000" spc="-1" strike="noStrike">
                <a:solidFill>
                  <a:srgbClr val="000000"/>
                </a:solidFill>
                <a:latin typeface="Calibri"/>
              </a:rPr>
              <a:t>difficile </a:t>
            </a:r>
            <a:r>
              <a:rPr b="0" lang="en-US" sz="1000" spc="-1" strike="noStrike">
                <a:solidFill>
                  <a:srgbClr val="000000"/>
                </a:solidFill>
                <a:latin typeface="Calibri"/>
              </a:rPr>
              <a:t>(C. </a:t>
            </a:r>
            <a:r>
              <a:rPr b="0" i="1" lang="en-US" sz="1000" spc="-1" strike="noStrike">
                <a:solidFill>
                  <a:srgbClr val="000000"/>
                </a:solidFill>
                <a:latin typeface="Calibri"/>
              </a:rPr>
              <a:t>difficile</a:t>
            </a:r>
            <a:r>
              <a:rPr b="0" lang="en-US" sz="1000" spc="-1" strike="noStrike">
                <a:solidFill>
                  <a:srgbClr val="000000"/>
                </a:solidFill>
                <a:latin typeface="Calibri"/>
              </a:rPr>
              <a:t>, C. </a:t>
            </a:r>
            <a:r>
              <a:rPr b="0" i="1" lang="en-US" sz="1000" spc="-1" strike="noStrike">
                <a:solidFill>
                  <a:srgbClr val="000000"/>
                </a:solidFill>
                <a:latin typeface="Calibri"/>
              </a:rPr>
              <a:t>diff</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roviru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otaviru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y is orange with a brown stripe for contact enteric isolation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ange is used for contact precautions. The brown stripe was added to remind staff of the unique care that must be done with these types of patients such as using soap and water for hand hygiene when leaving the room and chlorine-based disinfectant as per facility policy when clean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en is contact enteric precautions use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act enteric precautions are used when a patient is known or suspected to be infected with an enteric organis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ow does contact enteric transmission occur?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nsmission can occur directly from the patient or from a surface they have touched. Contact precautions and good hand washing can keep you and your patients saf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at does contact enteric isolation precautions involv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act precautions consists of practicing good hand hygiene at all times, placing patient in a private room when possible using gown and gloves, and use of disposable or dedicated equipment in addition to standard precautions. In addition, staff should wash their hands with soap and water when leaving the room and the room should be cleaned with chlorine-based disinfectant to kill the organis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Visitors should not eat in the room of patients on Enteric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o decides when a patient has to be placed in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urse or physician will decide if a patient should be placed in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o decides when a patient can be taken out of contact enteric isolation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 facility policy or contact Infection Preventionist if ques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nsport and visitor instructions are the similar as for Contact Precautions. At patient discharge, do not remove isolation signage until housekeeping has cleaned the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3B6A-9A37-47D1-ADA8-48DD5634E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Common conditions which use precautio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luenz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ningiti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tussi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iratory virus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y is green for droplet isolation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reen was selected based on one of the frequent colors of infected secre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en is droplet precautions use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roplet precautions are used when a patient is known or suspected to be infected with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ganisms that are spread by droplets in the air such as bacterial meningiti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ow does droplet transmission occur?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roplet transmission occurs through spread of organisms that are carried in large droplets when an infected patient coughs, sneezes, or a splash is produced during a procedure such as suctioning or from contaminated surfac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at do droplet precautions involv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roplet precautions consists of placing patient in a private room when possible, practicing good hand hygiene all of the time, using a mask. Use gown and gloves is likely to come in contact with secre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Visitors should check with nurse before entering room for the first time. Onl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llow them to visit already exposed. Visitors should wear a mask in the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o decides when a patient has to be placed in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urse or physician will decide if a patient should be placed in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o decides when a patient can be taken out of droplet isolation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 facility policy or contact Infection Preventionist if ques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ow do I transport a patien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ace patient in a clean gown and have patient wear a mask. Alert the receiving department of the isolation statu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T PATIENT DISCHARGE, DO NOT REMOVE ISOLATION SIGNAGE UNTIL HOUSEKEEPING HAS CLEANED THE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FF8B-7AF1-4A7E-A20B-B8C2CACE42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on Conditions which use precautio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ickenpox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seminated herpes zoster (Shingl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calized zoster in immunocompromised individual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asles (Rubeo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y is blue with orange stripe for airborne contact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lue reminds staff of air. The orange stripe is to call attention to the use of contact precautions that may have to be use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en is airborne contact precautions used?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irborne contact precautions are used when a patient is known or suspected to be infected with a disease that is spread through the air in tiny droplets such as chickenpox.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ow does airborne contact transmission occur?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irborne transmission occurs through spread of organisms that are carried through the air on dust particles or small particle residue. This type of infection is spread by breathing droplets in the air that carry the organism and through contact with draining les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at does airborne contact precautions involv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irborne precautions consists of placing the patient in an airborne infection isolation negative pressure room, practicing good hand hygiene, using gown and gloves, and </a:t>
            </a:r>
            <a:r>
              <a:rPr b="1" lang="en-US" sz="1000" spc="-1" strike="noStrike">
                <a:solidFill>
                  <a:srgbClr val="000000"/>
                </a:solidFill>
                <a:latin typeface="Calibri"/>
              </a:rPr>
              <a:t>permitting only staff and visitors who are immune to enter the patient room. The door to the patient’s room must be shut at all times. After patient is discharged, keep room door closed for one hour before cleaning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at is an AII room or Airborne Infection Isolation or negative pressure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II or negative pressure rooms are specially designed to prevent the flow of air from the room into the corridors and common areas where susceptible persons may be exposed. This is accomplished through special ventilation system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ho decides when a patient can be taken out of airborne contact isolation precau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 facility policy regarding when the Airborne Contact Precautions sign can be removed for safe entry or contact Infection Preventionist if you have question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or transport, patients should wear a surgical mask. </a:t>
            </a:r>
            <a:r>
              <a:rPr b="0" lang="en-US" sz="1000" spc="-1" strike="noStrike">
                <a:solidFill>
                  <a:srgbClr val="000000"/>
                </a:solidFill>
                <a:latin typeface="Calibri"/>
              </a:rPr>
              <a:t> </a:t>
            </a:r>
            <a:r>
              <a:rPr b="1" lang="en-US" sz="1000" spc="-1" strike="noStrike">
                <a:solidFill>
                  <a:srgbClr val="000000"/>
                </a:solidFill>
                <a:latin typeface="Calibri"/>
              </a:rPr>
              <a:t>At patient discharge, do not remove isolation signage until housekeeping has cleaned the room.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1334-A954-4D19-92E4-63C1688254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mon conditions which use Airborne Respirator Precaution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ulmonary or Laryngeal Tuberculosis Others as designated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y is blue with a pink stripe for airborne respirator precaution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ue was used for air and airborne precautions and a pink stripe was added to call attention to the type of respirator for this isolation precau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en is airborne respirator precautions used?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irborne respirator precautions are used when a patient is known or suspected to be infected with diseases spread by airborne route such as tuberculosi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ow does airborne respirator transmission occur?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irborne respirator transmission occurs through spread of organisms that are carried through the air on dust particles or small particle residue. This type of infection is spread by breathing tiny droplets in the air that carry organisms and poor hand hygien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at do airborne respirator precautions involv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irborne respirator precautions consists of placing the patient in an airborne infection isolation room (negative pressure), practicing good hand hygiene, </a:t>
            </a:r>
            <a:r>
              <a:rPr b="1" lang="en-US" sz="1100" spc="-1" strike="noStrike">
                <a:solidFill>
                  <a:srgbClr val="000000"/>
                </a:solidFill>
                <a:latin typeface="Calibri"/>
              </a:rPr>
              <a:t>using a PAPR or N95 respirator when entering the room, and always keeping the door closed. Patient must wear a surgical mask during transport. Family and visitors should wear a surgical mask. After patient is discharged, keep room door closed for one hour before cleaning room.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at is an AII room or Airborne Infection Isolation or negative pressure room?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II or negative pressure rooms are specially designed to prevent the flow of air from the room into the corridors and common areas where susceptible persons may be exposed. This is accomplished through special ventilation system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ho decides when a patient can be taken out of airborne respirator precaution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 facility policy or contact Infection Preventionist if you have question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 PATIENT DISCHARGE, DO NOT REMOVE ISOLATION SIGNAGE UNTIL HOUSEKEEPING HAS CLEANED THE ROOM.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0891-2764-463B-9521-E17841522C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ospital like the other hospitals in West Virginia is very concerned about hospital acquired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s in West Virginia have been working to reduce hospital acquired infections. This includes work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nd hygie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entral line bu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entilator bu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ly antibiotics for surgery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litdrug resistant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we have done a lot, we know that more needs to be done to reduce hospital acquired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223C-3B7B-453E-A762-435BF0A19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ignage has been created to be used by Hospital Infection Prevention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eded for cases that required specific instructions other than the standardized 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ee it, follow the instructions outli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8C20-1991-4A39-83DE-2AD7EF6DF0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your hospital’s poli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656B-1993-4A96-A3FF-95F0700AF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through each of these po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1C44-65BC-4A6B-B639-56D3CFCE26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your implement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0CB7-D360-400C-8ED0-57437E823C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7F5E-8093-4960-8E32-696A7262AF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hand hygiene, one of the important ways to reduce infections is through isolation preca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ers for Disease Control and Prevention (CDC) states that isolation precautions are one of the seven most important strategies to reduce multidrug resistant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itation if needed is Management of MDRO in Healthcare Settings, 2006- </a:t>
            </a:r>
            <a:r>
              <a:rPr b="0" i="1" lang="en-US" sz="1200" spc="-1" strike="noStrike">
                <a:solidFill>
                  <a:srgbClr val="000000"/>
                </a:solidFill>
                <a:latin typeface="Calibri"/>
              </a:rPr>
              <a:t>Infection Control Precautions to Prevent Trans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2659-C905-4943-A9E9-1F87F1587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lation signage is designed to meet the CDC “</a:t>
            </a:r>
            <a:r>
              <a:rPr b="0" i="1" lang="en-US" sz="1200" spc="-1" strike="noStrike">
                <a:solidFill>
                  <a:srgbClr val="000000"/>
                </a:solidFill>
                <a:latin typeface="Calibri"/>
              </a:rPr>
              <a:t>Guideline for Isolation Precautions: Preventing transmission of Infections Agents in Healthcare Settings 2007” (219 p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helps address concern from the public, infection control experts, and government officials on the variation in isolation practices in West Virginia hospit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498C-F9EF-4630-B03F-5400EDE801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new isolation signage will help u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 the spread of infections between patients and to sta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hospitals in meeting CDC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patients feel more secure (patients worry when practices are done differen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duplication of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consistency enabling physicians and staff to deliver safe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compliance and understanding of consistent expectation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 family and visitors what they can do to help prevent the spread of inf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B8CE-1AA0-4A71-BF69-C5A0E2DAF4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also help u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uce duplication of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eate consistency enabling physicians and staff to deliver safe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 compliance and understanding of consistent expectation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orm family and visitors what they can do to help prevent the spread of inf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E7E-CE47-49A8-8D24-E1E4F73DF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tion in isolation precaution practices and colors used makes it more difficult for staff and physicians who work in multiple hospitals This variation leads to confusion and the potential of harm. The variation makes routine care more diffic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1A69-71B9-45DB-ABC6-E06EA4E416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gns were creat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sy to read with big pictures and few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send family and visitors looking for the nurse every time they vis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asy access for staff to information when they have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family and visitor education on what they need to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47BE-41BA-44E4-ADC2-8DCF94492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e the types of precautions and colors which will be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CF14-095F-4F7E-B165-8C69DED32F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49DA8-158E-40D4-BB94-73B9A209F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793FD-2A8E-48AA-84B3-4D491297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B94BE-DB9D-4BB6-A81A-8FD4DBE0B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DD039-F91C-4BF7-A56B-B9F4663D4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AE75-A6ED-43D9-8933-3042C358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4BF8-E175-4618-97C1-21CE0ADE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6012-1CB5-4C8E-AB2C-BF038E53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DAB65-AB4F-4727-9FEB-FB52444AC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68B6-B48A-4C97-9761-4531701EE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B9A8-802C-496B-BA44-42B21A260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A72A-3592-4C0A-BABA-4C62AB11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A516-15F5-4101-93C4-431BE3C0A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10C2-3C42-4186-B568-54FAC92AB8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Isolation Precaution Signage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7" descr=""/>
          <p:cNvPicPr/>
          <p:nvPr/>
        </p:nvPicPr>
        <p:blipFill>
          <a:blip r:embed="rId1"/>
          <a:srcRect l="17188" t="25004" r="20315" b="15627"/>
          <a:stretch/>
        </p:blipFill>
        <p:spPr>
          <a:xfrm>
            <a:off x="1371600" y="1654200"/>
            <a:ext cx="6019920" cy="428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Precautions</a:t>
            </a:r>
            <a:endParaRPr b="0" lang="en-US" sz="4400" spc="-1" strike="noStrike">
              <a:solidFill>
                <a:srgbClr val="000000"/>
              </a:solidFill>
              <a:latin typeface="Calibri"/>
            </a:endParaRPr>
          </a:p>
        </p:txBody>
      </p:sp>
      <p:pic>
        <p:nvPicPr>
          <p:cNvPr id="69" name="Picture 4" descr=""/>
          <p:cNvPicPr/>
          <p:nvPr/>
        </p:nvPicPr>
        <p:blipFill>
          <a:blip r:embed="rId1"/>
          <a:stretch/>
        </p:blipFill>
        <p:spPr>
          <a:xfrm>
            <a:off x="2820960" y="1600200"/>
            <a:ext cx="35020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alibri"/>
              </a:rPr>
              <a:t>Components of Isolation Precautions Signage</a:t>
            </a:r>
            <a:endParaRPr b="0" lang="en-US" sz="4000" spc="-1" strike="noStrike">
              <a:solidFill>
                <a:srgbClr val="000000"/>
              </a:solidFill>
              <a:latin typeface="Calibri"/>
            </a:endParaRPr>
          </a:p>
        </p:txBody>
      </p:sp>
      <p:sp>
        <p:nvSpPr>
          <p:cNvPr id="7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aution signs for patient roo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instru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 coded patient, family, and visitor information shee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 12" descr=""/>
          <p:cNvPicPr/>
          <p:nvPr/>
        </p:nvPicPr>
        <p:blipFill>
          <a:blip r:embed="rId1"/>
          <a:stretch/>
        </p:blipFill>
        <p:spPr>
          <a:xfrm>
            <a:off x="5410080" y="1905120"/>
            <a:ext cx="1297080" cy="1674720"/>
          </a:xfrm>
          <a:prstGeom prst="rect">
            <a:avLst/>
          </a:prstGeom>
          <a:ln w="0">
            <a:noFill/>
          </a:ln>
        </p:spPr>
      </p:pic>
      <p:pic>
        <p:nvPicPr>
          <p:cNvPr id="73" name="Picture 13" descr=""/>
          <p:cNvPicPr/>
          <p:nvPr/>
        </p:nvPicPr>
        <p:blipFill>
          <a:blip r:embed="rId2"/>
          <a:stretch/>
        </p:blipFill>
        <p:spPr>
          <a:xfrm>
            <a:off x="6553080" y="1981080"/>
            <a:ext cx="1301760" cy="1676520"/>
          </a:xfrm>
          <a:prstGeom prst="rect">
            <a:avLst/>
          </a:prstGeom>
          <a:ln w="0">
            <a:noFill/>
          </a:ln>
        </p:spPr>
      </p:pic>
      <p:pic>
        <p:nvPicPr>
          <p:cNvPr id="74" name="Picture 14" descr=""/>
          <p:cNvPicPr/>
          <p:nvPr/>
        </p:nvPicPr>
        <p:blipFill>
          <a:blip r:embed="rId3"/>
          <a:stretch/>
        </p:blipFill>
        <p:spPr>
          <a:xfrm>
            <a:off x="5943600" y="3657600"/>
            <a:ext cx="13669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ct Precautions</a:t>
            </a:r>
            <a:endParaRPr b="0" lang="en-US" sz="4400" spc="-1" strike="noStrike">
              <a:solidFill>
                <a:srgbClr val="000000"/>
              </a:solidFill>
              <a:latin typeface="Calibri"/>
            </a:endParaRPr>
          </a:p>
        </p:txBody>
      </p:sp>
      <p:pic>
        <p:nvPicPr>
          <p:cNvPr id="76" name="Picture 4" descr=""/>
          <p:cNvPicPr/>
          <p:nvPr/>
        </p:nvPicPr>
        <p:blipFill>
          <a:blip r:embed="rId1"/>
          <a:stretch/>
        </p:blipFill>
        <p:spPr>
          <a:xfrm>
            <a:off x="2795760" y="1600200"/>
            <a:ext cx="3552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ct Precautions</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281772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ct Precautions</a:t>
            </a:r>
            <a:endParaRPr b="0" lang="en-US" sz="4400" spc="-1" strike="noStrike">
              <a:solidFill>
                <a:srgbClr val="000000"/>
              </a:solidFill>
              <a:latin typeface="Calibri"/>
            </a:endParaRPr>
          </a:p>
        </p:txBody>
      </p:sp>
      <p:pic>
        <p:nvPicPr>
          <p:cNvPr id="80" name="Picture 1" descr=""/>
          <p:cNvPicPr/>
          <p:nvPr/>
        </p:nvPicPr>
        <p:blipFill>
          <a:blip r:embed="rId1"/>
          <a:stretch/>
        </p:blipFill>
        <p:spPr>
          <a:xfrm>
            <a:off x="2814480" y="1600200"/>
            <a:ext cx="35150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ct Precautions</a:t>
            </a:r>
            <a:endParaRPr b="0" lang="en-US" sz="4400" spc="-1" strike="noStrike">
              <a:solidFill>
                <a:srgbClr val="000000"/>
              </a:solidFill>
              <a:latin typeface="Calibri"/>
            </a:endParaRPr>
          </a:p>
        </p:txBody>
      </p:sp>
      <p:pic>
        <p:nvPicPr>
          <p:cNvPr id="82" name="Picture 1" descr=""/>
          <p:cNvPicPr/>
          <p:nvPr/>
        </p:nvPicPr>
        <p:blipFill>
          <a:blip r:embed="rId1"/>
          <a:stretch/>
        </p:blipFill>
        <p:spPr>
          <a:xfrm>
            <a:off x="2814480" y="1600200"/>
            <a:ext cx="351504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Contact Enteric Precautions</a:t>
            </a:r>
            <a:br>
              <a:rPr sz="4000"/>
            </a:br>
            <a:endParaRPr b="0" lang="en-US" sz="4000" spc="-1" strike="noStrike">
              <a:solidFill>
                <a:srgbClr val="000000"/>
              </a:solidFill>
              <a:latin typeface="Calibri"/>
            </a:endParaRPr>
          </a:p>
        </p:txBody>
      </p:sp>
      <p:pic>
        <p:nvPicPr>
          <p:cNvPr id="84" name="Picture 6" descr=""/>
          <p:cNvPicPr/>
          <p:nvPr/>
        </p:nvPicPr>
        <p:blipFill>
          <a:blip r:embed="rId1"/>
          <a:stretch/>
        </p:blipFill>
        <p:spPr>
          <a:xfrm>
            <a:off x="2798640" y="1600200"/>
            <a:ext cx="35467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roplet Precautions</a:t>
            </a:r>
            <a:br>
              <a:rPr sz="4000"/>
            </a:br>
            <a:endParaRPr b="0" lang="en-US" sz="4000" spc="-1" strike="noStrike">
              <a:solidFill>
                <a:srgbClr val="000000"/>
              </a:solidFill>
              <a:latin typeface="Calibri"/>
            </a:endParaRPr>
          </a:p>
        </p:txBody>
      </p:sp>
      <p:pic>
        <p:nvPicPr>
          <p:cNvPr id="86" name="Picture 1" descr=""/>
          <p:cNvPicPr/>
          <p:nvPr/>
        </p:nvPicPr>
        <p:blipFill>
          <a:blip r:embed="rId1"/>
          <a:stretch/>
        </p:blipFill>
        <p:spPr>
          <a:xfrm>
            <a:off x="281772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irborne Contact Precautions</a:t>
            </a:r>
            <a:br>
              <a:rPr sz="4000"/>
            </a:br>
            <a:endParaRPr b="0" lang="en-US" sz="4000" spc="-1" strike="noStrike">
              <a:solidFill>
                <a:srgbClr val="000000"/>
              </a:solidFill>
              <a:latin typeface="Calibri"/>
            </a:endParaRPr>
          </a:p>
        </p:txBody>
      </p:sp>
      <p:pic>
        <p:nvPicPr>
          <p:cNvPr id="88" name="Picture 1" descr=""/>
          <p:cNvPicPr/>
          <p:nvPr/>
        </p:nvPicPr>
        <p:blipFill>
          <a:blip r:embed="rId1"/>
          <a:stretch/>
        </p:blipFill>
        <p:spPr>
          <a:xfrm>
            <a:off x="2832120" y="1600200"/>
            <a:ext cx="34797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irborne Respirator Precautions</a:t>
            </a:r>
            <a:br>
              <a:rPr sz="4000"/>
            </a:br>
            <a:endParaRPr b="0" lang="en-US" sz="4000" spc="-1" strike="noStrike">
              <a:solidFill>
                <a:srgbClr val="000000"/>
              </a:solidFill>
              <a:latin typeface="Calibri"/>
            </a:endParaRPr>
          </a:p>
        </p:txBody>
      </p:sp>
      <p:pic>
        <p:nvPicPr>
          <p:cNvPr id="90" name="Picture 1" descr=""/>
          <p:cNvPicPr/>
          <p:nvPr/>
        </p:nvPicPr>
        <p:blipFill>
          <a:blip r:embed="rId1"/>
          <a:stretch/>
        </p:blipFill>
        <p:spPr>
          <a:xfrm>
            <a:off x="2820960" y="1600200"/>
            <a:ext cx="35020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Standardization Work</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pitals in Washington State have been working to reduce hospital acquired infection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hygie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lin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ntilators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ly antibiotics for surgery pati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drug resistant organisms i.e. MRSA, C. Diffic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d by the Washington State Hospital Associ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 Precautions</a:t>
            </a:r>
            <a:br>
              <a:rPr sz="4000"/>
            </a:br>
            <a:endParaRPr b="0" lang="en-US" sz="4000" spc="-1" strike="noStrike">
              <a:solidFill>
                <a:srgbClr val="000000"/>
              </a:solidFill>
              <a:latin typeface="Calibri"/>
            </a:endParaRPr>
          </a:p>
        </p:txBody>
      </p:sp>
      <p:pic>
        <p:nvPicPr>
          <p:cNvPr id="92" name="Picture 1" descr=""/>
          <p:cNvPicPr/>
          <p:nvPr/>
        </p:nvPicPr>
        <p:blipFill>
          <a:blip r:embed="rId1"/>
          <a:stretch/>
        </p:blipFill>
        <p:spPr>
          <a:xfrm>
            <a:off x="2835360" y="1600200"/>
            <a:ext cx="34732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Our Hospital’s Policy</a:t>
            </a:r>
            <a:endParaRPr b="0" lang="en-US" sz="4400" spc="-1" strike="noStrike">
              <a:solidFill>
                <a:srgbClr val="000000"/>
              </a:solidFill>
              <a:latin typeface="Calibri"/>
            </a:endParaRPr>
          </a:p>
        </p:txBody>
      </p:sp>
      <p:pic>
        <p:nvPicPr>
          <p:cNvPr id="94" name="Picture 8" descr=""/>
          <p:cNvPicPr/>
          <p:nvPr/>
        </p:nvPicPr>
        <p:blipFill>
          <a:blip r:embed="rId1"/>
          <a:srcRect l="17188" t="25004" r="20315" b="15627"/>
          <a:stretch/>
        </p:blipFill>
        <p:spPr>
          <a:xfrm>
            <a:off x="1523880" y="1692360"/>
            <a:ext cx="6096240" cy="434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Summary and Review</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lation Precaution Signage – What do the five color-coded precautions mea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a patient get placed into isol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on discontinuing isolation precaution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family, and visitor education and what they should be do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hering to isolation precautions during transpor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harge instructions for home and/or facility transf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When Do We “Go Live”</a:t>
            </a:r>
            <a:endParaRPr b="0" lang="en-US" sz="4400" spc="-1" strike="noStrike">
              <a:solidFill>
                <a:srgbClr val="000000"/>
              </a:solidFill>
              <a:latin typeface="Calibri"/>
            </a:endParaRPr>
          </a:p>
        </p:txBody>
      </p:sp>
      <p:pic>
        <p:nvPicPr>
          <p:cNvPr id="98" name="Picture 7" descr=""/>
          <p:cNvPicPr/>
          <p:nvPr/>
        </p:nvPicPr>
        <p:blipFill>
          <a:blip r:embed="rId1"/>
          <a:srcRect l="17188" t="25004" r="20315" b="15627"/>
          <a:stretch/>
        </p:blipFill>
        <p:spPr>
          <a:xfrm>
            <a:off x="1523880" y="1692360"/>
            <a:ext cx="6096240" cy="434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Question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act ______  if you have additiona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es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ducing Multidrug Resistant Organisms</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hand hygiene, an important ways to reduce transmission of multidrug resistant organisms is through isolation preca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9" descr=""/>
          <p:cNvPicPr/>
          <p:nvPr/>
        </p:nvPicPr>
        <p:blipFill>
          <a:blip r:embed="rId1"/>
          <a:srcRect l="20898" t="0" r="20898" b="0"/>
          <a:stretch/>
        </p:blipFill>
        <p:spPr>
          <a:xfrm>
            <a:off x="3200400" y="3276720"/>
            <a:ext cx="29718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Related Guidelin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eet Centers for Disease Control and Prevention (CDC) guidelines, Management of MDRO in Healthcare Settings, 2006- </a:t>
            </a:r>
            <a:r>
              <a:rPr b="0" i="1" lang="en-US" sz="3200" spc="-1" strike="noStrike">
                <a:solidFill>
                  <a:srgbClr val="000000"/>
                </a:solidFill>
                <a:latin typeface="Calibri"/>
              </a:rPr>
              <a:t>Infection Control Precautions to Prevent Transmission</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lation signage to be meet CDC </a:t>
            </a:r>
            <a:r>
              <a:rPr b="0" lang="en-US" sz="4000" spc="-1" strike="noStrike">
                <a:solidFill>
                  <a:srgbClr val="000000"/>
                </a:solidFill>
                <a:latin typeface="Calibri"/>
              </a:rPr>
              <a:t>“</a:t>
            </a:r>
            <a:r>
              <a:rPr b="0" i="1" lang="en-US" sz="3200" spc="-1" strike="noStrike">
                <a:solidFill>
                  <a:srgbClr val="000000"/>
                </a:solidFill>
                <a:latin typeface="Calibri"/>
              </a:rPr>
              <a:t>Guideline for Isolation Precautions:  Preventing transmission of Infections Agents in Healthcare Settings 2007” (219 pages)</a:t>
            </a:r>
            <a:endParaRPr b="0" lang="en-US" sz="3200" spc="-1" strike="noStrike">
              <a:solidFill>
                <a:srgbClr val="000000"/>
              </a:solidFill>
              <a:latin typeface="Calibri"/>
            </a:endParaRPr>
          </a:p>
          <a:p>
            <a:pPr marL="343080" indent="-3430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concern on the variation in isolation practices in Washington hospitals on isolation from the Governor's Scientific Pan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Reasons for Standardiz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the spread of infections between patients and to staff;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hospitals in meeting CDC guide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atients feel more secure (Patients worry when practices are done different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Reasons for Standardiza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duplication of wor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consistency enabling physicians and staff to deliver safe c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 compliance and understanding of consistent expectations; 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 family and visitors what they can do to help prevent the spread of inf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Standardization Simplifying Car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hysicians and nurses work in multiple hospital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tion leads to confusion and the potential of harm to patients and self.</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tion makes the jobs of physicians and nurses, and other staff more diffic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Core Philosophi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ge to have simple, big, easy to see pic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ge to minimize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age to not send family and visitors looking for nursing staff  (STOP sig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asy access to information by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r coded between family education and sign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alibri"/>
              </a:rPr>
              <a:t>Standardized Categories and Colors of Precautions</a:t>
            </a:r>
            <a:endParaRPr b="0" lang="en-US" sz="4000" spc="-1" strike="noStrike">
              <a:solidFill>
                <a:srgbClr val="000000"/>
              </a:solidFill>
              <a:latin typeface="Calibri"/>
            </a:endParaRPr>
          </a:p>
        </p:txBody>
      </p:sp>
      <p:graphicFrame>
        <p:nvGraphicFramePr>
          <p:cNvPr id="67" name=""/>
          <p:cNvGraphicFramePr/>
          <p:nvPr/>
        </p:nvGraphicFramePr>
        <p:xfrm>
          <a:off x="457200" y="1600200"/>
          <a:ext cx="8229600" cy="411480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aution Typ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Standard</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Yellow</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Contact</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rang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Contact Enteric</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Orange/</a:t>
                      </a:r>
                      <a:r>
                        <a:rPr b="1" lang="en-US" sz="2600" spc="-1" strike="noStrike">
                          <a:solidFill>
                            <a:srgbClr val="663300"/>
                          </a:solidFill>
                          <a:latin typeface="Arial"/>
                        </a:rPr>
                        <a:t>Brown stripe</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Droplet</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Green</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Airborne Contact</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Blue/</a:t>
                      </a:r>
                      <a:r>
                        <a:rPr b="1" lang="en-US" sz="2800" spc="-1" strike="noStrike">
                          <a:solidFill>
                            <a:srgbClr val="ff6600"/>
                          </a:solidFill>
                          <a:latin typeface="Arial"/>
                        </a:rPr>
                        <a:t>Orange</a:t>
                      </a:r>
                      <a:r>
                        <a:rPr b="1" lang="en-US" sz="2800" spc="-1" strike="noStrike">
                          <a:solidFill>
                            <a:srgbClr val="ff9900"/>
                          </a:solidFill>
                          <a:latin typeface="Arial"/>
                        </a:rPr>
                        <a:t> </a:t>
                      </a:r>
                      <a:r>
                        <a:rPr b="1" lang="en-US" sz="2800" spc="-1" strike="noStrike">
                          <a:solidFill>
                            <a:srgbClr val="ff6600"/>
                          </a:solidFill>
                          <a:latin typeface="Arial"/>
                        </a:rPr>
                        <a:t>strip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Airborne Respirator</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Blue/</a:t>
                      </a:r>
                      <a:r>
                        <a:rPr b="1" lang="en-US" sz="2800" spc="-1" strike="noStrike">
                          <a:solidFill>
                            <a:srgbClr val="ff33cc"/>
                          </a:solidFill>
                          <a:latin typeface="Arial"/>
                        </a:rPr>
                        <a:t> Pink strip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33"/>
                          </a:solidFill>
                          <a:latin typeface="Arial"/>
                        </a:rPr>
                        <a:t>  </a:t>
                      </a:r>
                      <a:r>
                        <a:rPr b="1" lang="en-US" sz="2600" spc="-1" strike="noStrike">
                          <a:solidFill>
                            <a:srgbClr val="660033"/>
                          </a:solidFill>
                          <a:latin typeface="Arial"/>
                        </a:rPr>
                        <a:t>Special Precautions</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20:38:37Z</dcterms:created>
  <dc:creator>Jean Fisher</dc:creator>
  <dc:description/>
  <dc:language>en-US</dc:language>
  <cp:lastModifiedBy>Chuck</cp:lastModifiedBy>
  <dcterms:modified xsi:type="dcterms:W3CDTF">2009-06-25T15:22:22Z</dcterms:modified>
  <cp:revision>9</cp:revision>
  <dc:subject/>
  <dc:title>Isolation Precaution Signage </dc:title>
</cp:coreProperties>
</file>