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936-0589-4D38-B168-1C5F8FFB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DDC-101A-4CE6-8B40-638A24B2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C65-5684-4882-B904-9C3C3C36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894-2FD0-4FCB-89F6-E6D65A56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858-2DD6-4280-9358-DCA0E90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179-4088-413C-9527-FE607F37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169-B90B-44D4-BCDE-8056948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04A-F6F8-4BE0-B9EF-249867F6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407-A5B8-4CC2-8311-B8FB5BDE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4F0-02AF-4059-9C75-E67EDBC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53C-13AF-4C75-A042-864A7C0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FD4-91BE-468F-84B0-D618EBE2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321D-F542-4657-8DF9-3F74BDBC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5840" y="297000"/>
            <a:ext cx="857088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85840" y="297000"/>
            <a:ext cx="8570880" cy="6262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85840" y="284040"/>
            <a:ext cx="8570880" cy="62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271440" y="284040"/>
            <a:ext cx="8601120" cy="62881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85840" y="284040"/>
            <a:ext cx="8570880" cy="6288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2714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872560" y="0"/>
            <a:ext cx="2714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71440" y="0"/>
            <a:ext cx="8601120" cy="304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271440" y="6553080"/>
            <a:ext cx="8601120" cy="304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381024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West Virginia Hospital Standardization Protocol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for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mplementing the Correct Patient, Correct Procedure and Correct Site Surge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92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November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Background - IOM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sk of dying as a result of medical error far surpasses the risk of dying in an airline acc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th on Domestic Flights -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1 in 8,000,000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Background - IOM Report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eath in Hospitals from Medical Err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in 343 Admits  to  1 in 764 Ad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dverse Events in Hos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in 27 Admits   to   1 in 34 Ad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ep 1. 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consent form must be signed by the patient or their substitute decision maker pre-operatively and must state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patient’s full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ame of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ite of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ide of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4114800"/>
            <a:ext cx="7632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8080"/>
                </a:solidFill>
                <a:latin typeface="Times New Roman"/>
              </a:rPr>
              <a:t>Rationale: </a:t>
            </a:r>
            <a:r>
              <a:rPr b="0" i="1" lang="en-AU" sz="2400" spc="-1" strike="noStrike">
                <a:solidFill>
                  <a:srgbClr val="008080"/>
                </a:solidFill>
                <a:latin typeface="Times New Roman"/>
              </a:rPr>
              <a:t>To ensure that the patient understands </a:t>
            </a:r>
            <a:r>
              <a:rPr b="0" i="1" lang="en-AU" sz="2400" spc="-1" strike="noStrike" u="sng">
                <a:solidFill>
                  <a:srgbClr val="008080"/>
                </a:solidFill>
                <a:uFillTx/>
                <a:latin typeface="Times New Roman"/>
              </a:rPr>
              <a:t>where </a:t>
            </a:r>
            <a:r>
              <a:rPr b="0" i="1" lang="en-AU" sz="2400" spc="-1" strike="noStrike">
                <a:solidFill>
                  <a:srgbClr val="008080"/>
                </a:solidFill>
                <a:latin typeface="Times New Roman"/>
              </a:rPr>
              <a:t>the surgeon intends to operate, as well as </a:t>
            </a:r>
            <a:r>
              <a:rPr b="0" i="1" lang="en-AU" sz="2400" spc="-1" strike="noStrike" u="sng">
                <a:solidFill>
                  <a:srgbClr val="008080"/>
                </a:solidFill>
                <a:uFillTx/>
                <a:latin typeface="Times New Roman"/>
              </a:rPr>
              <a:t>what </a:t>
            </a:r>
            <a:r>
              <a:rPr b="0" i="1" lang="en-AU" sz="2400" spc="-1" strike="noStrike">
                <a:solidFill>
                  <a:srgbClr val="008080"/>
                </a:solidFill>
                <a:latin typeface="Times New Roman"/>
              </a:rPr>
              <a:t>procedure is to be performed and </a:t>
            </a:r>
            <a:r>
              <a:rPr b="0" i="1" lang="en-AU" sz="2400" spc="-1" strike="noStrike" u="sng">
                <a:solidFill>
                  <a:srgbClr val="008080"/>
                </a:solidFill>
                <a:uFillTx/>
                <a:latin typeface="Times New Roman"/>
              </a:rPr>
              <a:t>why</a:t>
            </a:r>
            <a:r>
              <a:rPr b="0" i="1" lang="en-AU" sz="2400" spc="-1" strike="noStrike">
                <a:solidFill>
                  <a:srgbClr val="008080"/>
                </a:solidFill>
                <a:latin typeface="Times New Roman"/>
              </a:rPr>
              <a:t>. 45% of wrong-site surgery incidents could have been prevented by accurately completing Informed Consent </a:t>
            </a:r>
            <a:r>
              <a:rPr b="0" lang="en-AU" sz="1400" spc="-1" strike="noStrike">
                <a:solidFill>
                  <a:srgbClr val="008080"/>
                </a:solidFill>
                <a:latin typeface="Times New Roman"/>
              </a:rPr>
              <a:t>(VHA, 200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ep 2. Mark the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 surgeon in the surgical team is responsible for marking the site(s), which includes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nsulting with the 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hecking the Informed Cons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Signing unambiguously with his or her initia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Using an indelible ink p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ot marking non-operative s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alting the proposed surgery if there is a discrepa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nsidering exceptions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41972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8080"/>
                </a:solidFill>
                <a:latin typeface="Times New Roman"/>
              </a:rPr>
              <a:t>Rationale: </a:t>
            </a:r>
            <a:r>
              <a:rPr b="0" i="1" lang="en-AU" sz="2400" spc="-1" strike="noStrike">
                <a:solidFill>
                  <a:srgbClr val="008080"/>
                </a:solidFill>
                <a:latin typeface="Times New Roman"/>
              </a:rPr>
              <a:t>Marking the site(s) makes clear where the surgery is to be performed. 65% of wrong site surgery incidents could have been prevented by having surgeons mark </a:t>
            </a:r>
            <a:r>
              <a:rPr b="0" i="1" lang="en-US" sz="2400" spc="-1" strike="noStrike">
                <a:solidFill>
                  <a:srgbClr val="008080"/>
                </a:solidFill>
                <a:latin typeface="Times New Roman"/>
              </a:rPr>
              <a:t>the </a:t>
            </a:r>
            <a:r>
              <a:rPr b="0" i="1" lang="en-AU" sz="2400" spc="-1" strike="noStrike">
                <a:solidFill>
                  <a:srgbClr val="008080"/>
                </a:solidFill>
                <a:latin typeface="Times New Roman"/>
              </a:rPr>
              <a:t>operative site(s) </a:t>
            </a:r>
            <a:r>
              <a:rPr b="0" lang="en-AU" sz="1400" spc="-1" strike="noStrike">
                <a:solidFill>
                  <a:srgbClr val="008080"/>
                </a:solidFill>
                <a:latin typeface="Times New Roman"/>
              </a:rPr>
              <a:t>(VHA, 200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tep 3. Operating Suite Ad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nurse admitting the patient to the Operating Suite is responsible for this step. In this check the nurse asks the patient to state,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confirm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their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ull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ate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cedure s/he is h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ite/side of the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267080"/>
            <a:ext cx="7632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8080"/>
                </a:solidFill>
                <a:latin typeface="Times New Roman"/>
              </a:rPr>
              <a:t>Rationale: </a:t>
            </a:r>
            <a:r>
              <a:rPr b="0" i="1" lang="en-AU" sz="2400" spc="-1" strike="noStrike">
                <a:solidFill>
                  <a:srgbClr val="008080"/>
                </a:solidFill>
                <a:latin typeface="Times New Roman"/>
              </a:rPr>
              <a:t>Asking the patient to state rather than confirm their details helps prevents miscommunication. 75% of wrong-site incidents could have been prevented by effective communication on admission to the Operating Suite</a:t>
            </a:r>
            <a:r>
              <a:rPr b="0" lang="en-AU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en-AU" sz="1400" spc="-1" strike="noStrike">
                <a:solidFill>
                  <a:srgbClr val="008080"/>
                </a:solidFill>
                <a:latin typeface="Times New Roman"/>
              </a:rPr>
              <a:t>(VHA, 200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tep 4. Final Chec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is a team check led by the surgeon. It is carried out in the Operating Room prior to the start of surgery. The team checks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rect name and date of birth or 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urgical procedur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rect marking of surgical si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4600" indent="-36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sthesis available, if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343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8080"/>
                </a:solidFill>
                <a:latin typeface="Times New Roman"/>
              </a:rPr>
              <a:t>Rationale: </a:t>
            </a:r>
            <a:r>
              <a:rPr b="0" i="1" lang="en-AU" sz="2000" spc="-1" strike="noStrike">
                <a:solidFill>
                  <a:srgbClr val="008080"/>
                </a:solidFill>
                <a:latin typeface="Times New Roman"/>
              </a:rPr>
              <a:t>Having a team overtly clarify the details demonstrates a clear understanding of the surgery to be performed. 85% of wrong-site surgery incidents</a:t>
            </a:r>
            <a:r>
              <a:rPr b="0" lang="en-AU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i="1" lang="en-AU" sz="2000" spc="-1" strike="noStrike">
                <a:solidFill>
                  <a:srgbClr val="008080"/>
                </a:solidFill>
                <a:latin typeface="Times New Roman"/>
              </a:rPr>
              <a:t>could have been prevented by carrying out this step</a:t>
            </a:r>
            <a:r>
              <a:rPr b="0" lang="en-AU" sz="2000" spc="-1" strike="noStrike">
                <a:solidFill>
                  <a:srgbClr val="008080"/>
                </a:solidFill>
                <a:latin typeface="Times New Roman"/>
              </a:rPr>
              <a:t> (VHA, 200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tep 4 (cont). Imaging D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surgeon who is performing surgery that involves reference to imaging data is responsible for this step. It may be that Imaging Data continues on from Step 4 or it may occur intra-operatively or bo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vol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dentifying with another team member that the images 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c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rect for site, side and patien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11480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8080"/>
                </a:solidFill>
                <a:latin typeface="Times New Roman"/>
              </a:rPr>
              <a:t>Rationale: </a:t>
            </a:r>
            <a:r>
              <a:rPr b="0" i="1" lang="en-AU" sz="2000" spc="-1" strike="noStrike">
                <a:solidFill>
                  <a:srgbClr val="008080"/>
                </a:solidFill>
                <a:latin typeface="Times New Roman"/>
              </a:rPr>
              <a:t>Errors in determining the appropriate site due to lack of availability or improper labelling of images is a real vulnerability and methods to mitigate this vulnerability need to be in place.</a:t>
            </a:r>
            <a:r>
              <a:rPr b="0" lang="en-AU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i="1" lang="en-AU" sz="2000" spc="-1" strike="noStrike">
                <a:solidFill>
                  <a:srgbClr val="008080"/>
                </a:solidFill>
                <a:latin typeface="Times New Roman"/>
              </a:rPr>
              <a:t>20% of wrong site surgery incidents</a:t>
            </a:r>
            <a:r>
              <a:rPr b="0" lang="en-AU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i="1" lang="en-AU" sz="2000" spc="-1" strike="noStrike">
                <a:solidFill>
                  <a:srgbClr val="008080"/>
                </a:solidFill>
                <a:latin typeface="Times New Roman"/>
              </a:rPr>
              <a:t>could have been prevented by</a:t>
            </a:r>
            <a:r>
              <a:rPr b="0" lang="en-AU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i="1" lang="en-AU" sz="2000" spc="-1" strike="noStrike">
                <a:solidFill>
                  <a:srgbClr val="008080"/>
                </a:solidFill>
                <a:latin typeface="Times New Roman"/>
              </a:rPr>
              <a:t>having two team members check images for surgery </a:t>
            </a:r>
            <a:r>
              <a:rPr b="0" lang="en-AU" sz="2000" spc="-1" strike="noStrike">
                <a:solidFill>
                  <a:srgbClr val="008080"/>
                </a:solidFill>
                <a:latin typeface="Times New Roman"/>
              </a:rPr>
              <a:t>(VHA, 200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60020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Why Are We He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37339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Variation is the enemy of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7619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EACH and Every employee has the responsibility and duty to question the decision of any other team member, without fear, at any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our Obligation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Whose Responsibility is 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that we operate on the right per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that we operate on the right body 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43000" y="5562720"/>
            <a:ext cx="1295280" cy="114300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Nothing Will Change Unless You Chang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imes New Roman"/>
              </a:rPr>
              <a:t>James Reason’s 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Fallibility is part of the human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We can’t change the human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So, we have to change the conditions under which peopl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1398600" cy="164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05720" y="36576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Father of Modern Safety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imes New Roman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Incompetent peop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, at best,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1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.  The other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99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good peop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ry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a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good jo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ho make very simple mistake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’s the processes that set them up to make 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takes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ucian Leape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owever, a no blame environment doesn’t mean the absence of  accountabilit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ient Centered vs. Staff Centered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However, a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o blame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 environment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oesn’t 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mean the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sence of  accountability  </a:t>
            </a: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Patient Centered vs. Staff Centered Ca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000" spc="-1" strike="noStrike">
                <a:solidFill>
                  <a:srgbClr val="ff9966"/>
                </a:solidFill>
                <a:latin typeface="Times New Roman"/>
              </a:rPr>
              <a:t>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 cultur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Does not advocate a name, blame, shame, and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train philosoph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Deny that errors occur only to “bad apples,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upports a fierce intolerance for intentional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risk tak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Fair treatment for individuals making errors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regardless of outcome or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086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tient Centered vs. Staff Centered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Your Duty is to . . 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00"/>
                </a:solidFill>
                <a:uFillTx/>
                <a:latin typeface="Times New Roman"/>
              </a:rPr>
              <a:t>Report, Report, Repor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Make Situational Awareness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Make Patient Safety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e Proa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95360" y="355680"/>
            <a:ext cx="6464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Reporting incidents improves patien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Patients are a part of the proces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the constant from one transition of care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s have to take responsibility for their own well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care providers must empower the patient to take that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peakUP Campa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int Commission launched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SpeakU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aign in 2002 to encourage patients to become active, involved and informed participants of the health care t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Everyone in the Organiz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mpaign acknowledges that physicians, health care executives, nurses and other health care workers are already working hard to address the ongoing problem of health car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peakUP Campa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8168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peakUP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Speak Up logo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2121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peak U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Help Prevent Errors In Your C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Universal Protoco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Wrong Site Surg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ing To Be A Living Organ D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hings You Can Do To Prevent Inf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s To Prevent Medication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Elimination of Varia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Is the goal for the West Virginia Hospital Standardization Protocol for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Implementing the Correct Patient, Correct Procedure and Correct Site Surg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hould and Mu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Have been eliminated in th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Roles are assigned to individu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Variance has been eliminated among participating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3712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tende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urgery is a </a:t>
            </a:r>
            <a:r>
              <a:rPr b="0" lang="en-AU" sz="2400" spc="-1" strike="noStrike">
                <a:solidFill>
                  <a:srgbClr val="ff6600"/>
                </a:solidFill>
                <a:latin typeface="Times New Roman"/>
              </a:rPr>
              <a:t>preventab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problem which is rare, but can be devast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urge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evant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fessionals are committed to implement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patient, side and site surg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ians must be engaged in a leadership role if the processes are to be effective and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308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396216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i="1" lang="en-US" sz="5400" spc="-1" strike="noStrike">
                <a:solidFill>
                  <a:srgbClr val="ff6600"/>
                </a:solidFill>
                <a:latin typeface="Times New Roman"/>
              </a:rPr>
              <a:t>Modern health care presents the most complex safety challenge of any activity on Earth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125892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10080" y="5257800"/>
            <a:ext cx="30276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Lucian Leape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Times New Roman"/>
              </a:rPr>
              <a:t>Father of Modern Patient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934320" cy="54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ypes of Wrong Surgery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Wrong Site Surgery by Surgical Speci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120" y="1417680"/>
          <a:ext cx="7696080" cy="3470400"/>
        </p:xfrm>
        <a:graphic>
          <a:graphicData uri="http://schemas.openxmlformats.org/drawingml/2006/table">
            <a:tbl>
              <a:tblPr/>
              <a:tblGrid>
                <a:gridCol w="2819160"/>
                <a:gridCol w="609840"/>
                <a:gridCol w="365760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Special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Special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hoped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iat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Surg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/Maxillofa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vas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tetric/Gynec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Invasive Proced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olaryng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Risk Factors Contributing to Wrong Site 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1447920"/>
          <a:ext cx="7696080" cy="3916080"/>
        </p:xfrm>
        <a:graphic>
          <a:graphicData uri="http://schemas.openxmlformats.org/drawingml/2006/table">
            <a:tbl>
              <a:tblPr/>
              <a:tblGrid>
                <a:gridCol w="3124080"/>
                <a:gridCol w="609480"/>
                <a:gridCol w="335304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isk 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isk 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cy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usual Equipment or Set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bid Obesity Physical Deform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m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Surge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Proced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usual Time Press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Joint Commission TOP Sentinel Events</a:t>
            </a:r>
            <a:r>
              <a:rPr b="1" i="1" lang="en-US" sz="44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1995 – To 2005)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6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86000"/>
          </a:bodyPr>
          <a:p>
            <a:pPr marL="458640" indent="-458640" algn="ctr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5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ntinel Eve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by J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64  Patient Suicide                  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65  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55 Wrong Site Surgery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58  Anesthesia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44   Op/Post-Op Complications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56  Medical Equipment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358   Medication Error    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51  Maternal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69   Delay in Treatment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3  Ventilator Death/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89   Patient Falls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3  Infant Abduction/Wrong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38   Patient Restraint Death/Injury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9  Utility Systems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21  Assault/Rape/Homicide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3  Untended Foreign Body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09  Perinatal Death/Loss Function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46 Other less frequ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94   Transfusion Error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67   Infection Related Event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66   Patient Elo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67680" indent="-294840">
              <a:lnSpc>
                <a:spcPct val="95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5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17:37:34Z</dcterms:created>
  <dc:creator>Jean</dc:creator>
  <dc:description/>
  <dc:language>en-US</dc:language>
  <cp:lastModifiedBy>Jean Fisher</cp:lastModifiedBy>
  <dcterms:modified xsi:type="dcterms:W3CDTF">2007-12-06T19:54:23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